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E8BC4-A4BE-4D52-9ECD-2129CAE224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568D5-C575-492D-8881-CDE6A8A345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EA23-D085-4111-91C7-439071390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4DC0-1EC5-4698-BF1E-73E3954A8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B87A-446F-4066-8D0C-06BF2D322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0E4A-F063-4BE2-893D-C8BB2C552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FFEB-86F1-44AB-BB4F-6962AC287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2BC1-9A89-4E2F-A697-994C14D96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1E6A-2F33-478C-95DF-C677C0491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C45C-FB6D-4B04-81B5-65D65338A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4C07-D6D7-440D-A398-95D6672F2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E440-063F-4466-AF86-D579438A7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487F-D2B0-4C29-AE80-E1B3B18B7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9137-85BD-485C-8DDB-8F11330AE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0EA13-2C80-47AD-BA8E-70E8C34DB5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796D0-7D46-46FC-93B4-814C3FF217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Объект 2"/>
          <p:cNvGraphicFramePr/>
          <p:nvPr/>
        </p:nvGraphicFramePr>
        <p:xfrm>
          <a:off x="287280" y="1555920"/>
          <a:ext cx="8829720" cy="5302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280" y="1555920"/>
                    <a:ext cx="8829720" cy="53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Прямоугольник 3"/>
          <p:cNvSpPr/>
          <p:nvPr/>
        </p:nvSpPr>
        <p:spPr>
          <a:xfrm>
            <a:off x="647640" y="62244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Изменение муниципального долга на 1 ноября 2023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SapphireHiddenControl" descr=""/>
          <p:cNvPicPr/>
          <p:nvPr/>
        </p:nvPicPr>
        <p:blipFill>
          <a:blip r:embed="rId3"/>
          <a:stretch/>
        </p:blipFill>
        <p:spPr>
          <a:xfrm>
            <a:off x="0" y="0"/>
            <a:ext cx="609588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C9FF8-AD1C-496A-91C3-9E1BE4F071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520560" y="501480"/>
            <a:ext cx="78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Структура муниципального долга на 1 ноября 2023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Объект 3"/>
          <p:cNvGraphicFramePr/>
          <p:nvPr/>
        </p:nvGraphicFramePr>
        <p:xfrm>
          <a:off x="182520" y="1044720"/>
          <a:ext cx="9875880" cy="607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520" y="1044720"/>
                    <a:ext cx="9875880" cy="607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4T05:42:13Z</dcterms:created>
  <dc:creator>User</dc:creator>
  <dc:description/>
  <dc:language>en-US</dc:language>
  <cp:lastModifiedBy>RePack by Diakov</cp:lastModifiedBy>
  <cp:lastPrinted>2020-01-10T05:43:34Z</cp:lastPrinted>
  <dcterms:modified xsi:type="dcterms:W3CDTF">2023-11-01T04:18:00Z</dcterms:modified>
  <cp:revision>160</cp:revision>
  <dc:subject/>
  <dc:title>Презентация PowerPoint</dc:title>
</cp:coreProperties>
</file>